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2E1-8BF5-49DC-8062-8CC968FD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066-15A1-4E52-89B2-DC27117D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9D6-735F-4365-9D82-BC774EC8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FD7-E460-4F5E-911D-16C23A69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3A77-5489-461A-9B6C-EB7B0F36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8B95-DF19-4CC9-8120-DFA64168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9127-AB1C-4F60-8DF5-0D734247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9DA0-302F-4BE8-AE48-AAAF39C0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4A6D-4624-43A0-8AA7-97E83524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5274-8AF9-49E9-98E0-D5C63236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A2AB-AB15-4EBC-9A37-D406067E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465-70FC-4A75-B227-1426A6BD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1082-E887-499E-A45B-5EC779A5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67DE-2080-4B36-921D-9DC3FCBF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FC01-77B4-482D-8C74-DD709829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348D-35FD-404D-9580-6B30B69C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1753-D014-42C0-9F74-556E9158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2982-2B91-4410-8394-D7403C39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96F-9C83-451D-B88B-86FD9D04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3AF-9CAC-4CE5-86A5-D05A4A74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9D4-4AB7-49EE-98D1-73770D1F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6F1-BBE0-470F-A0D2-A4760D2D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D27-FA85-48E3-B144-5B004247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369A-45C4-4470-BC09-B8C8E0E9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AE7C-83D6-4A39-833F-D28B4D937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1032-40D5-4918-B1FB-2F0EAE5F1C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456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Avaliação de Usabilidade: Software para Internacionalização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9564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ichel Gran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auricio Gerhard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ulo Henr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ariane Soa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Jad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saio de Interação - Taref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ação de uma sequência de tarefas, contendo 27 passos (sub-taref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refas passam por todo o software, dando ênfase nos pontos de maior probabilidade de er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saio de Interaçã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ário 1: Inici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o de interação: 45minu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iculdades apresentada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ube realizar as tarefas sem muita dificuldade, elogiou a facilidade com que aprendeu a usar e corrigir problem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guma demora para localizar as ferramentas (falta de conduçã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s pequenos, porém, repetidos várias vezes (?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tante dificuldade no formulário de mesclagem (todos os problemas possíveis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saio de Interaçã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ário 2: Intermediá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o de interação: 30minu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iculdades apresentada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ube realizar as tarefas sem dificuldade, já estava bem adaptado às rotinas do siste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z todas as tarefas sem dificuldades em localizar ferramentas, mas igualmente ao caso anterior, se perdeu no formulário de mesclag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á com alguma visão crítica, reclamou de alguns itens na interface que não estavam bem colocados, ou pelo trabalho levemente demasiado em realizar tarefas repetitivas simples (legibilidade, ações mínim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saio de Interaçã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ário 3: Experi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o de interação: 10minu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iculdades apresentada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ube realizar as tarefas sem qualquer dificuldade, elogiando a facilidade e rapidez com que conseguia realizar a maioria das tarefas, e a segurança que a interface lhe passava nas operaçõ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m como no caso anterior, também reclamou de alguns procedimentos em que precisava repetir alguns passos para uma mesma tarefa repeti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ão teve praticamente nenhuma dificuldade com o formulário de mesclagem, pois já conhecia todas as ferramentas e deficiências do mesmo, sabendo quais rumos tomar para não perder temp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Conclusõe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ontos positivo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odos os usuários utilizados no ensaio conheciam o domínio do problema: dados concisos para o relatório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nsaio feito em local de trabal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blemas encontrados pelos avaliadores na análise heurística, na sua grande maioria, foram verificados como problemas à interação sistema-usuá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omprovada a utilidade da avaliação de usabilidade no softwar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tectados problemas que “já eram esperad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Conclusões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ntos negativ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ise Heurística e criação das tarefas: feitas por não-profissionais, porém, não chegaram a afetar muito, devido ao tamanho reduzido do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ário de mesclagem: problemas que podem comprometer a concisão dos dados se o usuário não se manter at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613080" y="189000"/>
            <a:ext cx="10441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Sistema Avaliado: MultiLingua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rramenta para Internacionalização de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cação Específica: Usuários Avançados (geralmente programador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116000" y="2924280"/>
          <a:ext cx="6912000" cy="379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924280"/>
                    <a:ext cx="6912000" cy="37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A Avaliação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TIV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lizar problemas na interface que afetem (obstruam?) a interação sistema-usuá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ODOLOG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iro passo: Avaliação Heurís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gundo passo: Ensaio de Interaçã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Primeiro Passo: Avaliação Heurística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liadores receberam treinamento no softw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izada por estudantes de graduação (Não-Profissionais do ra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or probabilidade de não encontrar proble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contrar problemas em potencial na interf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dos para gerar o Ensa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valiação Heuríst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28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Inexistências de muitas tarefas: logo, todas as possíveis tarefas do software foram execut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Atividades Usuais da execução do softwar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riação de Tipos e Identific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tribuição de Textos Literais aos Identific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créscimo/Decréscimo de Idio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erramentas de navegação (Procura, substituição, et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sultados da Avaliação Heurístic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4872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ados vários problemas de pouca significância, que não devem interferir no resultado final. Porém, trarão atraso na realização das taref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332000" y="2924280"/>
          <a:ext cx="6264360" cy="37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924280"/>
                    <a:ext cx="6264360" cy="37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sultados da Avaliação Heurístic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07552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a mais grave no Formulário de Mesclagem: muitos dados e pouca informação visual de como o usuário deve proceder com o sis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332000" y="3284640"/>
          <a:ext cx="6121440" cy="340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3284640"/>
                    <a:ext cx="612144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egundo Passo: Ensaio de Interaçã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bido com dados colhidos na análise heuríst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ificação no momento em que o usuário interage com o sistema, buscando saber se os problemas relatados na análise heurística proced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saio de Interaçã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biente: Local de trabal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ca constante de informaçõ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Classes de usuário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an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mediári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ri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01:41:28Z</dcterms:created>
  <dc:creator>Mentow</dc:creator>
  <dc:description/>
  <dc:language>en-US</dc:language>
  <cp:lastModifiedBy>Mentow</cp:lastModifiedBy>
  <dcterms:modified xsi:type="dcterms:W3CDTF">2004-07-02T04:58:15Z</dcterms:modified>
  <cp:revision>35</cp:revision>
  <dc:subject/>
  <dc:title>Avaliação de Usabilidade: Software para Internacionalização</dc:title>
</cp:coreProperties>
</file>